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916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916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916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640" y="-360"/>
            <a:ext cx="86378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916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r.farnell.com/commande#quotes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952360" y="2470320"/>
            <a:ext cx="3215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ELEMENT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10 jui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2320" y="568800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olloque GEII – Renne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12600" y="110916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é d’un moteur de recherche ultra puissant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 grâce à une navigation simple et rapide vous accédez à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350 000 produits en st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La disponibilité des produi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et le suivi de vos commandes internet </a:t>
            </a: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en temps ré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recherche rapide et intelligente pour </a:t>
            </a: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comparer  5 produits sur un seul écra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naître les produits conformes RoHS, obtenir gratuitement les fiches techniques et produits associ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14894" b="0"/>
          <a:stretch/>
        </p:blipFill>
        <p:spPr>
          <a:xfrm>
            <a:off x="44280" y="4719600"/>
            <a:ext cx="3048120" cy="20941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880" y="-360"/>
            <a:ext cx="86374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7a00"/>
                </a:solidFill>
                <a:latin typeface="Arial"/>
              </a:rPr>
              <a:t>Le site internet</a:t>
            </a:r>
            <a:r>
              <a:rPr b="1" lang="fr-FR" sz="4800" spc="-1" strike="noStrike">
                <a:solidFill>
                  <a:srgbClr val="ff7a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7a00"/>
                </a:solidFill>
                <a:latin typeface="Arial"/>
              </a:rPr>
              <a:t>www.farnell.fr</a:t>
            </a:r>
            <a:endParaRPr b="0" lang="en-US" sz="32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92640" y="4809960"/>
            <a:ext cx="57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3 000 nouveaux produits ajoutés chaque moi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5200" y="29808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7a00"/>
                </a:solidFill>
                <a:latin typeface="Arial"/>
              </a:rPr>
              <a:t>Service eCotation</a:t>
            </a:r>
            <a:endParaRPr b="0" lang="en-US" sz="48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760" y="1459080"/>
            <a:ext cx="563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vis directement sur notre s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lus aucune saisie d'artic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sualisation directement des prix nets propos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Historique de toutes vos offres en lign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_x0020_5" descr="http://www.farnell.fr/images/equote/ServiceEQ.gif"/>
          <p:cNvPicPr/>
          <p:nvPr/>
        </p:nvPicPr>
        <p:blipFill>
          <a:blip r:embed="rId1"/>
          <a:stretch/>
        </p:blipFill>
        <p:spPr>
          <a:xfrm>
            <a:off x="552600" y="3170160"/>
            <a:ext cx="784080" cy="77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55920" y="3168720"/>
            <a:ext cx="670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ail d'information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Après avoir sollicité notre </a:t>
            </a: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rvice Cotation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vous êtes avertis par un mail de notre offre de prix en lign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_x0020_6" descr="http://www.farnell.fr/images/equote/Cotations.gif"/>
          <p:cNvPicPr/>
          <p:nvPr/>
        </p:nvPicPr>
        <p:blipFill>
          <a:blip r:embed="rId3"/>
          <a:stretch/>
        </p:blipFill>
        <p:spPr>
          <a:xfrm>
            <a:off x="552600" y="4170240"/>
            <a:ext cx="788760" cy="62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62040" y="4129200"/>
            <a:ext cx="63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sultez notre proposition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Cliquez sur le lien contenu dans l'eMail pour accéder à la page contenant les détails de vos offres de p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_x0020_7" descr="http://www.farnell.fr/images/equote/prix.gif"/>
          <p:cNvPicPr/>
          <p:nvPr/>
        </p:nvPicPr>
        <p:blipFill>
          <a:blip r:embed="rId4"/>
          <a:stretch/>
        </p:blipFill>
        <p:spPr>
          <a:xfrm>
            <a:off x="552600" y="5025960"/>
            <a:ext cx="79668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5920" y="5051520"/>
            <a:ext cx="70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électionnez vos articl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Sélectionnez les articles que vous voulez ajouter à votre panier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_x0020_8" descr="http://www.farnell.fr/images/equote/valider.gif"/>
          <p:cNvPicPr/>
          <p:nvPr/>
        </p:nvPicPr>
        <p:blipFill>
          <a:blip r:embed="rId5"/>
          <a:stretch/>
        </p:blipFill>
        <p:spPr>
          <a:xfrm>
            <a:off x="554040" y="6024600"/>
            <a:ext cx="803160" cy="65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74640" y="5999040"/>
            <a:ext cx="485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alidez votre command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: Si vous le souhaitez, ajoutez dans le même panier des articles ne figurant pas au dev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5200" y="298080"/>
            <a:ext cx="863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7a00"/>
                </a:solidFill>
                <a:latin typeface="Arial"/>
              </a:rPr>
              <a:t>Farnell rachète Cadsoft…</a:t>
            </a:r>
            <a:endParaRPr b="0" lang="en-US" sz="4800" spc="-1" strike="noStrike">
              <a:solidFill>
                <a:srgbClr val="ff7a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28760" y="3417840"/>
            <a:ext cx="2047680" cy="943200"/>
            <a:chOff x="428760" y="3417840"/>
            <a:chExt cx="2047680" cy="943200"/>
          </a:xfrm>
        </p:grpSpPr>
        <p:sp>
          <p:nvSpPr>
            <p:cNvPr id="58" name=""/>
            <p:cNvSpPr/>
            <p:nvPr/>
          </p:nvSpPr>
          <p:spPr>
            <a:xfrm>
              <a:off x="428760" y="3424320"/>
              <a:ext cx="204768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39920" y="3417840"/>
              <a:ext cx="2027160" cy="90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426960" y="1527120"/>
            <a:ext cx="1054080" cy="1100160"/>
            <a:chOff x="426960" y="1527120"/>
            <a:chExt cx="1054080" cy="1100160"/>
          </a:xfrm>
        </p:grpSpPr>
        <p:sp>
          <p:nvSpPr>
            <p:cNvPr id="61" name=""/>
            <p:cNvSpPr/>
            <p:nvPr/>
          </p:nvSpPr>
          <p:spPr>
            <a:xfrm>
              <a:off x="426960" y="1527120"/>
              <a:ext cx="1054080" cy="11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26960" y="1537920"/>
              <a:ext cx="1036080" cy="10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1956240" y="169560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2a252"/>
                </a:solidFill>
                <a:latin typeface="Arial"/>
              </a:rPr>
              <a:t>EAGLE</a:t>
            </a:r>
            <a:r>
              <a:rPr b="1" lang="fr-FR" sz="2000" spc="-1" strike="noStrike" baseline="30000">
                <a:solidFill>
                  <a:srgbClr val="f2a252"/>
                </a:solidFill>
                <a:latin typeface="Arial"/>
              </a:rPr>
              <a:t>TM</a:t>
            </a:r>
            <a:r>
              <a:rPr b="1" lang="fr-FR" sz="2400" spc="-1" strike="noStrike">
                <a:solidFill>
                  <a:srgbClr val="f2a252"/>
                </a:solidFill>
                <a:latin typeface="Arial"/>
              </a:rPr>
              <a:t>  logiciel CAO conçu par Cad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liobliothèque Farnell intég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0240" y="3289320"/>
            <a:ext cx="60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2a252"/>
                </a:solidFill>
                <a:latin typeface="Arial"/>
              </a:rPr>
              <a:t>Interface logicielle DesignLink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sserelle pour d’autres plateformes CA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ltium, Orcad, Cadence, 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4880" y="4976640"/>
            <a:ext cx="23889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05480" y="1130400"/>
            <a:ext cx="2738520" cy="3336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760" y="3386160"/>
            <a:ext cx="2497320" cy="347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480" y="227160"/>
            <a:ext cx="863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7a00"/>
                </a:solidFill>
                <a:latin typeface="Arial"/>
              </a:rPr>
              <a:t>Farnell innove avec Element 14</a:t>
            </a: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42800" y="655164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ww.element-14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1247760"/>
            <a:ext cx="59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 accès unique à un portail technique et une communauté en ligne dans le domaine de la conception électro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3320" y="3747960"/>
            <a:ext cx="39175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 Element 14 vous pouve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ffectuer une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ccéder à des outils de co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artager de l’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llaborer en ligne à des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lliciter la communaut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roger en direct les fabric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227160"/>
            <a:ext cx="863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7a00"/>
                </a:solidFill>
                <a:latin typeface="Arial"/>
              </a:rPr>
              <a:t>Farnell innove avec Element 14</a:t>
            </a: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4688" t="19791" r="30470" b="13540"/>
          <a:stretch/>
        </p:blipFill>
        <p:spPr>
          <a:xfrm>
            <a:off x="1400040" y="3843360"/>
            <a:ext cx="3810240" cy="293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8920" y="1535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cédez à plus de 10000 document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lock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otes d’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uide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ute l’information sur la législation et aspects environ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227160"/>
            <a:ext cx="863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7a00"/>
                </a:solidFill>
                <a:latin typeface="Arial"/>
              </a:rPr>
              <a:t>Farnell innove avec Element 14</a:t>
            </a: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22641" r="29687" b="25004"/>
          <a:stretch/>
        </p:blipFill>
        <p:spPr>
          <a:xfrm>
            <a:off x="318960" y="4503600"/>
            <a:ext cx="3795840" cy="227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70316" t="19791" r="6250" b="18753"/>
          <a:stretch/>
        </p:blipFill>
        <p:spPr>
          <a:xfrm>
            <a:off x="6858000" y="1174680"/>
            <a:ext cx="228600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4320" y="1379520"/>
            <a:ext cx="8586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interaction avec les fabric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ticipation des plus grands fabricants mondiaux d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domain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informations détaillées sur les lancement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uveaux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accès direct à une communauté d’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480" y="227160"/>
            <a:ext cx="863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7a00"/>
                </a:solidFill>
                <a:latin typeface="Arial"/>
              </a:rPr>
              <a:t>Farnell innove avec Element 14</a:t>
            </a:r>
            <a:endParaRPr b="0" lang="en-US" sz="4400" spc="-1" strike="noStrike">
              <a:solidFill>
                <a:srgbClr val="ff7a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0240" y="1279440"/>
            <a:ext cx="84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 accès en ligne aux formations produits des fabr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4320" y="2008080"/>
            <a:ext cx="6513480" cy="42404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050240" y="3206880"/>
            <a:ext cx="1896480" cy="725400"/>
            <a:chOff x="7050240" y="3206880"/>
            <a:chExt cx="1896480" cy="725400"/>
          </a:xfrm>
        </p:grpSpPr>
        <p:sp>
          <p:nvSpPr>
            <p:cNvPr id="83" name=""/>
            <p:cNvSpPr/>
            <p:nvPr/>
          </p:nvSpPr>
          <p:spPr>
            <a:xfrm>
              <a:off x="7050240" y="3246480"/>
              <a:ext cx="18176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165800" y="3206880"/>
              <a:ext cx="1780920" cy="67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1:43:30Z</dcterms:created>
  <dc:creator>PF User</dc:creator>
  <dc:description/>
  <dc:language>en-US</dc:language>
  <cp:lastModifiedBy>PF User</cp:lastModifiedBy>
  <dcterms:modified xsi:type="dcterms:W3CDTF">2010-06-10T10:57:31Z</dcterms:modified>
  <cp:revision>164</cp:revision>
  <dc:subject/>
  <dc:title>Slide 1</dc:title>
</cp:coreProperties>
</file>