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E717-C8F7-41D9-BB3B-398895A09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7775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5681520"/>
            <a:ext cx="7775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7C98-D64A-4816-A69C-58961909B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54673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56815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56815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2DB2-A44B-4E5A-84CB-0CA6F4FE6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25034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5467320"/>
            <a:ext cx="25034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2520" y="5467320"/>
            <a:ext cx="25034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5681520"/>
            <a:ext cx="25034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5681520"/>
            <a:ext cx="25034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2520" y="5681520"/>
            <a:ext cx="25034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EF88-8535-45FA-8299-639C31724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5467320"/>
            <a:ext cx="777528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777528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379404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5467320"/>
            <a:ext cx="379404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360" y="3954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5467320"/>
            <a:ext cx="379404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56815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5467320"/>
            <a:ext cx="777528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E153-01B7-4DD5-AC37-116EF27CF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379404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54673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56815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54673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5681520"/>
            <a:ext cx="7775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7775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5681520"/>
            <a:ext cx="7775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54673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56815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56815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25034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440" y="5467320"/>
            <a:ext cx="25034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520" y="5467320"/>
            <a:ext cx="25034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5681520"/>
            <a:ext cx="25034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440" y="5681520"/>
            <a:ext cx="25034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520" y="5681520"/>
            <a:ext cx="25034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777528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8961-E79C-450A-8107-6C4B13C25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379404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5467320"/>
            <a:ext cx="379404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8771-9B72-482C-B0EC-3BBF7D8BF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844C-CDAD-49F7-B6DC-C2BE0587F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360" y="39542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34A9-FE26-44B8-85AB-DCD869282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5467320"/>
            <a:ext cx="379404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56815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AA4A-DC49-49AA-AB75-622193955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379404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54673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56815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CEDA-F161-491D-9DEF-9692E376A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54673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5467320"/>
            <a:ext cx="379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5681520"/>
            <a:ext cx="7775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2075-0BCC-4829-9F95-7DBF3AC73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a34"/>
                </a:solidFill>
                <a:latin typeface="Slicker"/>
              </a:rPr>
              <a:t>Click to edit the title text format</a:t>
            </a: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a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a3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a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9a3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9a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618920" y="6603480"/>
            <a:ext cx="649080" cy="2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CE63-44F2-4C78-8F3F-F0E250ADD373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320" y="6616800"/>
            <a:ext cx="1584360" cy="1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437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437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ffffff"/>
                </a:solidFill>
                <a:latin typeface="Times New Roman"/>
              </a:rPr>
              <a:t>Copyright © 2008 Altium Limi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37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78760" y="6548400"/>
            <a:ext cx="885960" cy="19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47520" y="-47520"/>
            <a:ext cx="9239040" cy="6953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588000" y="620640"/>
            <a:ext cx="1800360" cy="393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95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a34"/>
                </a:solidFill>
                <a:latin typeface="Slicker"/>
              </a:rPr>
              <a:t>Click to edit the title text format</a:t>
            </a:r>
            <a:endParaRPr b="0" lang="en-US" sz="3200" spc="-1" strike="noStrike">
              <a:solidFill>
                <a:srgbClr val="cc9a34"/>
              </a:solidFill>
              <a:latin typeface="Slick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cc9a34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cc9a3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cc9a3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mailto:christian.tichet@altium.com" TargetMode="External"/><Relationship Id="rId4" Type="http://schemas.openxmlformats.org/officeDocument/2006/relationships/hyperlink" Target="http://www.altium.com/Evaluate/DemoCenter/" TargetMode="External"/><Relationship Id="rId5" Type="http://schemas.openxmlformats.org/officeDocument/2006/relationships/hyperlink" Target="http://www.altium.com/Evaluate/DemoCenter/" TargetMode="External"/><Relationship Id="rId6" Type="http://schemas.openxmlformats.org/officeDocument/2006/relationships/hyperlink" Target="http://www.altium.com/Community/TRAININGcenter/TrainingVideos/" TargetMode="External"/><Relationship Id="rId7" Type="http://schemas.openxmlformats.org/officeDocument/2006/relationships/hyperlink" Target="http://www.altium.com/Evaluate/Webconferenceregistration/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941720"/>
            <a:ext cx="26640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a34"/>
                </a:solidFill>
                <a:latin typeface="Slicker"/>
              </a:rPr>
              <a:t>Pour en savoir plus:</a:t>
            </a:r>
            <a:endParaRPr b="0" lang="en-US" sz="1600" spc="-1" strike="noStrike">
              <a:solidFill>
                <a:srgbClr val="cc9a34"/>
              </a:solidFill>
              <a:latin typeface="Slicker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24720" y="1773360"/>
            <a:ext cx="1179720" cy="550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35280" y="776160"/>
            <a:ext cx="4321080" cy="1791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32400" y="189000"/>
            <a:ext cx="68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898989"/>
                </a:solidFill>
                <a:latin typeface="Arial"/>
              </a:rPr>
              <a:t>Solution unifiée de développement de produits électroniqu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898989"/>
                </a:solidFill>
                <a:latin typeface="Arial"/>
              </a:rPr>
              <a:t>intégrée avec la méca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57960"/>
            <a:ext cx="2771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Altium – Christian Tich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Tel: 01 5560 23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Mobile: 06 5983 8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Courriel: </a:t>
            </a:r>
            <a:r>
              <a:rPr b="0" lang="en-AU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christian.tichet@altium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Web: www.altium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3716280"/>
            <a:ext cx="504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Des </a:t>
            </a:r>
            <a:r>
              <a:rPr b="1" lang="fr-FR" sz="1200" spc="-1" strike="noStrike">
                <a:solidFill>
                  <a:srgbClr val="808080"/>
                </a:solidFill>
                <a:latin typeface="Arial"/>
              </a:rPr>
              <a:t>vidéos de présentation, de formation</a:t>
            </a: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sur des points techniques précis, classées par thèmes ou par mots clé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altium.com/Evaluate/DemoCenter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altium.com/Community/TRAININGcenter/TrainingVideos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Des </a:t>
            </a:r>
            <a:r>
              <a:rPr b="1" lang="fr-FR" sz="1200" spc="-1" strike="noStrike">
                <a:solidFill>
                  <a:srgbClr val="808080"/>
                </a:solidFill>
                <a:latin typeface="Arial"/>
              </a:rPr>
              <a:t>conférences gratuites</a:t>
            </a: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sur le Web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ltium.com/Evaluate/Webconferenceregistratio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Un </a:t>
            </a:r>
            <a:r>
              <a:rPr b="1" lang="fr-FR" sz="1200" spc="-1" strike="noStrike">
                <a:solidFill>
                  <a:srgbClr val="808080"/>
                </a:solidFill>
                <a:latin typeface="Arial"/>
              </a:rPr>
              <a:t>ensemble d’informations et d’outils</a:t>
            </a: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, à votre disposition, pour </a:t>
            </a:r>
            <a:r>
              <a:rPr b="1" lang="fr-FR" sz="1200" spc="-1" strike="noStrike">
                <a:solidFill>
                  <a:srgbClr val="808080"/>
                </a:solidFill>
                <a:latin typeface="Arial"/>
              </a:rPr>
              <a:t>« découvrir, se former et enseigner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https://wiki.altium.com/display/ADOH/Getting+Started+with+Altium+Desig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Des </a:t>
            </a:r>
            <a:r>
              <a:rPr b="1" lang="fr-FR" sz="1200" spc="-1" strike="noStrike">
                <a:solidFill>
                  <a:srgbClr val="808080"/>
                </a:solidFill>
                <a:latin typeface="Arial"/>
              </a:rPr>
              <a:t>notes d’applications techniques</a:t>
            </a: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sur de nombreux sujets 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http://www.altium.com/Community/Learningguides/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084720" y="1773360"/>
            <a:ext cx="1081080" cy="795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1197000"/>
            <a:ext cx="125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Rennes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9, 10 et 11 j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179280" y="260280"/>
            <a:ext cx="1430280" cy="952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95280" y="2492280"/>
            <a:ext cx="49910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and A15 - Espace dét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3645000"/>
            <a:ext cx="32400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Arial"/>
              </a:rPr>
              <a:t>Programme « Education 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a3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rtenariat avec éc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a3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quipement éc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a3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cence « Etudiant » grat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5445000"/>
            <a:ext cx="273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Dvision notre revend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el: 0800 88 05 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ww.cadvision.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5:55:10Z</dcterms:created>
  <dc:creator/>
  <dc:description/>
  <dc:language>en-US</dc:language>
  <cp:lastModifiedBy>christian.tichet</cp:lastModifiedBy>
  <dcterms:modified xsi:type="dcterms:W3CDTF">2010-06-08T15:02:41Z</dcterms:modified>
  <cp:revision>63</cp:revision>
  <dc:subject/>
  <dc:title>Pour en savoir plus:</dc:title>
</cp:coreProperties>
</file>